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3D87-D21D-4283-AE22-E33D3426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F857-3466-4D2B-9CDE-80542FBE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4CF0-E5F8-4EDA-863A-55C7076A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F899-8F94-469A-83B1-E464FE3E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0827-E035-4C1F-AA1A-A85BAA40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1B38-BB84-45E0-8CBD-3B5C242B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E3E5-AFE4-4A6A-82C6-6DB26149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E20E-5A16-419A-B975-84A2D870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B141-074E-413A-9882-0D983CFC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0A49-3DC8-4D52-88E8-6D8AB306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8C8C-26D4-408D-B171-58B27B80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2259-B0E7-4E1D-9B93-31F095B2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EB64-9AE8-45B8-92F6-1BC6FE60F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image" Target="../media/image16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1.wmf"/><Relationship Id="rId3" Type="http://schemas.openxmlformats.org/officeDocument/2006/relationships/image" Target="../media/image4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4.wmf"/><Relationship Id="rId3" Type="http://schemas.openxmlformats.org/officeDocument/2006/relationships/image" Target="../media/image1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4.wmf"/><Relationship Id="rId3" Type="http://schemas.openxmlformats.org/officeDocument/2006/relationships/image" Target="../media/image6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4.wmf"/><Relationship Id="rId3" Type="http://schemas.openxmlformats.org/officeDocument/2006/relationships/image" Target="../media/image16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wmf"/><Relationship Id="rId3" Type="http://schemas.openxmlformats.org/officeDocument/2006/relationships/image" Target="../media/image8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620120" cy="5923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2819520"/>
            <a:ext cx="7467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¿De 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dónde 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s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732480" cy="4343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Méxic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20718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529080" cy="4051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0" y="4419720"/>
            <a:ext cx="3962520" cy="18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l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ados Unid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419720" y="1752480"/>
            <a:ext cx="332568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2837160" cy="3967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Españ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15382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3551400" cy="3591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gent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410080" y="838080"/>
            <a:ext cx="1614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3732480" cy="3824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Boliv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257800" y="1676520"/>
            <a:ext cx="182880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2962440" cy="3581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Per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162396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3532320" cy="3921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Chi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105520" y="457200"/>
            <a:ext cx="11142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3655800" cy="3656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952880" y="4038480"/>
            <a:ext cx="381024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Colomb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181480" y="1371600"/>
            <a:ext cx="15541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57800" y="762120"/>
            <a:ext cx="3214800" cy="2498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86200" y="3657600"/>
            <a:ext cx="1420920" cy="1986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62120" y="53352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ién es de Españ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914400" y="3809880"/>
            <a:ext cx="1743120" cy="1762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477120" y="3733920"/>
            <a:ext cx="1803240" cy="2070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37160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5943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3276720"/>
            <a:ext cx="3048120" cy="2743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2120" y="53352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ién es de Boliv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5943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3276720"/>
            <a:ext cx="3048120" cy="2743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791320" y="762120"/>
            <a:ext cx="2361960" cy="2330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14400" y="3581280"/>
            <a:ext cx="1701720" cy="1981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733920" y="373392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172200" y="3505320"/>
            <a:ext cx="217008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762120"/>
            <a:ext cx="3214800" cy="2498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2837160" cy="3967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Españ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62120" y="53352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ién es de Chi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943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3352680"/>
            <a:ext cx="3048120" cy="2743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400800" y="365760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705720" y="228600"/>
            <a:ext cx="936360" cy="2743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914400" y="3809880"/>
            <a:ext cx="1743120" cy="1762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657600" y="3809880"/>
            <a:ext cx="17478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62120" y="53352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ién es de Argent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5943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3200400"/>
            <a:ext cx="3048120" cy="2743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400800" y="365760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14400" y="3809880"/>
            <a:ext cx="1743120" cy="1762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657600" y="3809880"/>
            <a:ext cx="1747800" cy="1940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248520" y="762120"/>
            <a:ext cx="14731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533520"/>
            <a:ext cx="3886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ién es de los Estados Unid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5943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8168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3200400"/>
            <a:ext cx="3047760" cy="2743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1803600" cy="2070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324480" y="38862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581280" y="3733920"/>
            <a:ext cx="1702080" cy="1981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5105520" y="1066680"/>
            <a:ext cx="312408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62120" y="53352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ién es de Mé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5943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3352680"/>
            <a:ext cx="3047760" cy="2743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81280" y="3733920"/>
            <a:ext cx="1702080" cy="1981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914400" y="3657600"/>
            <a:ext cx="1747800" cy="1940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400800" y="3657600"/>
            <a:ext cx="1420920" cy="1986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5715000" y="990720"/>
            <a:ext cx="20718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53352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ién es de Colomb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5943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8168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3352680"/>
            <a:ext cx="3048120" cy="2743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581280" y="3733920"/>
            <a:ext cx="1702080" cy="1981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400800" y="365760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324480" y="914400"/>
            <a:ext cx="15541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53352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ién es de Per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5943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3200400"/>
            <a:ext cx="3048120" cy="2743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38080" y="38862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400800" y="365760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3581280" y="3886200"/>
            <a:ext cx="1649520" cy="1690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248520" y="609480"/>
            <a:ext cx="17510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410080" y="1143000"/>
            <a:ext cx="3040200" cy="4876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3551400" cy="3591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62120" y="5335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Es de Españ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, es 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gent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052880" cy="3373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Es de Mé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3732480" cy="4343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í, 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Méxic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227400" cy="31827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Es de Per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838080" y="2133720"/>
            <a:ext cx="3732480" cy="3824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, 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Boliv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5230800" cy="2779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Es de Mé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3529080" cy="40514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572000" y="4419720"/>
            <a:ext cx="3962520" cy="18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, es de l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ados Unid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10080" y="1143000"/>
            <a:ext cx="3040200" cy="4876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3551400" cy="3591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gent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477120" y="380880"/>
            <a:ext cx="2101680" cy="6161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Es de Chi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371600" y="1981080"/>
            <a:ext cx="3532320" cy="39211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í, 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Chi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248520" y="533520"/>
            <a:ext cx="2266920" cy="26654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62120" y="53352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Es de los Estados Unid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219320" y="2209680"/>
            <a:ext cx="3655800" cy="36561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952880" y="4038480"/>
            <a:ext cx="381024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, 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Colomb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248520" y="609480"/>
            <a:ext cx="2436840" cy="297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Es de Per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371600" y="2286000"/>
            <a:ext cx="2962440" cy="35812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í, 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Per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732480" cy="4343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Méxic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20718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3655800" cy="36561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952880" y="4038480"/>
            <a:ext cx="381024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Colomb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181480" y="1371600"/>
            <a:ext cx="15541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2837160" cy="396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Españ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15382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2962440" cy="35812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Per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162396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3732480" cy="38242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Boliv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257800" y="1676520"/>
            <a:ext cx="182880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529080" cy="4051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572000" y="4419720"/>
            <a:ext cx="3962520" cy="18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l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ados Unid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419720" y="1752480"/>
            <a:ext cx="332568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3532320" cy="39211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Chi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105520" y="457200"/>
            <a:ext cx="11142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052880" cy="3373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3732480" cy="4343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Méxic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3551400" cy="3591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gent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410080" y="838080"/>
            <a:ext cx="1614600" cy="259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676520" y="1676520"/>
            <a:ext cx="5715000" cy="4495680"/>
          </a:xfrm>
          <a:prstGeom prst="ellipse">
            <a:avLst/>
          </a:prstGeom>
          <a:gradFill rotWithShape="0">
            <a:gsLst>
              <a:gs pos="0">
                <a:srgbClr val="fffea0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227400" cy="3182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2133720"/>
            <a:ext cx="3732480" cy="3824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Boliv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5230800" cy="2779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3529080" cy="4051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0" y="4419720"/>
            <a:ext cx="3962520" cy="18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l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ados Unid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477120" y="380880"/>
            <a:ext cx="2101680" cy="6161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371600" y="1981080"/>
            <a:ext cx="3532320" cy="3921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Chi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248520" y="533520"/>
            <a:ext cx="2266920" cy="2665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19320" y="2209680"/>
            <a:ext cx="3655800" cy="3656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952880" y="4038480"/>
            <a:ext cx="381024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Colomb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248520" y="609480"/>
            <a:ext cx="2436840" cy="2970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371600" y="2286000"/>
            <a:ext cx="2962440" cy="3581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Per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0:15:49Z</dcterms:created>
  <dc:creator>Paul Widergren</dc:creator>
  <dc:description/>
  <dc:language>en-US</dc:language>
  <cp:lastModifiedBy>Paul Widergren</cp:lastModifiedBy>
  <dcterms:modified xsi:type="dcterms:W3CDTF">2005-10-09T16:49:31Z</dcterms:modified>
  <cp:revision>4</cp:revision>
  <dc:subject/>
  <dc:title>¿De dónde es?</dc:title>
</cp:coreProperties>
</file>